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638F-36A7-4EA5-814D-D4AB8BC0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1B6A-BEF8-4029-8942-F688FC1C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2F34-DD3C-4E1E-84F5-1A06E30A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8892-5E4A-4734-91B7-F074FF43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1D3-BDD0-4C65-B45E-BAC97338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0DA1-DEC9-464E-B46A-0A0C7796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12BF-284B-4101-8C09-D553C072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96DF-4A16-420A-A0F8-A510E081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4328-E1D0-45E8-8486-5863C565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EF48-F0FB-4716-B6C9-E9971A41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C26A-DA95-4878-9BF1-B2DC2B52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4606-473A-45A3-8779-D94EFD10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0504d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146C-6420-418B-BDCF-90CEE435B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0504d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albania.jpg"/>
          <p:cNvPicPr/>
          <p:nvPr/>
        </p:nvPicPr>
        <p:blipFill>
          <a:blip r:embed="rId1"/>
          <a:stretch/>
        </p:blipFill>
        <p:spPr>
          <a:xfrm>
            <a:off x="-250920" y="0"/>
            <a:ext cx="964584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Calibri"/>
              </a:rPr>
              <a:t>Albania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libri"/>
              </a:rPr>
              <a:t>Abbie Crone, Micah Walker, Bobby Mu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0504d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did the people come fr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st of the Caspian S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e to the Balk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toman Tu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dle 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0504d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were they ruled by and in what time period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man Empire ( 165 BC-395 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zantine Empire (395 AD – 1385A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toman Empire (1385 AD – 1912 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0504d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ler’s infl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m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in in Albanian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llyrians (ancient Albanian ancestor) had at least 10-20 emperors who ruled the emp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Byzantine emperors of ancient Albanian desc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tom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2 dozen grand viziers of Turkey were of Albanian orig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0504d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ars and Conflicts before breakup of Yugoslav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bian – Albanian Conflict (lasted for several centur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lkan W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me an independent country as a result of th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I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aly 1939 – 194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rmany 1939 - 194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0504d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 % of population Musl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0% of them Sun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0504d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riculture – 5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ices – 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ustry – 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0504d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[Country map of Albania]"/>
          <p:cNvPicPr/>
          <p:nvPr/>
        </p:nvPicPr>
        <p:blipFill>
          <a:blip r:embed="rId1"/>
          <a:stretch/>
        </p:blipFill>
        <p:spPr>
          <a:xfrm>
            <a:off x="4952880" y="3711600"/>
            <a:ext cx="4191120" cy="3146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hysical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Border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Best marked physical fe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Division of a lake distri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3 states sharing low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70% of country mountain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acess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5:46:52Z</dcterms:created>
  <dc:creator>abbiencrone</dc:creator>
  <dc:description/>
  <dc:language>en-US</dc:language>
  <cp:lastModifiedBy>claude crone</cp:lastModifiedBy>
  <dcterms:modified xsi:type="dcterms:W3CDTF">2010-05-04T01:54:11Z</dcterms:modified>
  <cp:revision>4</cp:revision>
  <dc:subject/>
  <dc:title>Albanians</dc:title>
</cp:coreProperties>
</file>